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200-91F9-4F0B-A2DB-E9D084D3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8D4-7E01-4255-BB84-01FF40F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6B5-9D27-461F-B519-12D3E9E4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DD8-504B-47F9-A1D1-0A97D226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B2F-128F-4081-AA85-56D6B66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097-588E-472E-BBF1-FF6ABB7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282-C4AF-45B3-B08A-60F4C75F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318-3758-4742-BAA7-3821B621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BE6-3B62-40E4-99DB-A7B64721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829-1273-48C5-AEA8-A0E61F41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2F0-003E-4102-BD1C-BA09BA2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303-ED64-4C01-AB80-C1D86E3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E9D9-7E6C-42B1-B71F-BF922F8EF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avid Mar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8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68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Car Mecha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971800" y="1738440"/>
            <a:ext cx="209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366720" y="2057400"/>
            <a:ext cx="19926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Roger T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6920" y="4652640"/>
            <a:ext cx="4032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8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83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a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Billy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87280" y="4436640"/>
            <a:ext cx="331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ight: 17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: 162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: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cupation: 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Alan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95280" y="4221000"/>
            <a:ext cx="4608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6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82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Peter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640" y="4797000"/>
            <a:ext cx="5113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ight: 18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: 196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e: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cupation: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Sam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360" y="4941720"/>
            <a:ext cx="3672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ight: 16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ight: 210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: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ccupation: Ba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James Jen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920" y="4797360"/>
            <a:ext cx="50421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Height:: 194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eight: 225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ge: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ccupation: Shop kee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ook Antiqua"/>
              </a:rPr>
              <a:t>Jack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5640" y="5013360"/>
            <a:ext cx="5256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ight: 15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ight: 190 l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: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tion: B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366720" y="2057400"/>
            <a:ext cx="1992600" cy="94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GS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20:15:54Z</dcterms:created>
  <dc:creator>Administrator</dc:creator>
  <dc:description/>
  <dc:language>en-US</dc:language>
  <cp:lastModifiedBy>Mac User</cp:lastModifiedBy>
  <dcterms:modified xsi:type="dcterms:W3CDTF">2010-05-31T15:58:25Z</dcterms:modified>
  <cp:revision>6</cp:revision>
  <dc:subject/>
  <dc:title>David Cole</dc:title>
</cp:coreProperties>
</file>